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9F7C-9B34-4FAB-A54A-6F2A1E1B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CC80-19CF-43CA-B3D9-01C6F714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BEAD-2FCF-4644-A028-5025FED5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577A-E08E-43B9-861B-99577BC9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E27A-8601-4EE0-AB09-8FF2D8BF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E2FC-9197-4D6E-A597-52402238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86EE-D18E-4A5A-BD64-E604BC74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E43F-77EB-4926-9E7B-204554B2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439B-61A8-4F04-8509-B275414D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8B66-15D3-4204-93E5-2224BB6E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722A-D3B1-4B32-926C-1D3B0650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2B00-D9D2-464C-B286-6B5A762D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E500-E578-48FE-BAB4-BA480350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D2CA-D97D-4174-BEDA-129385AC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A414-3750-4985-B743-88DF8824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E6D7-F443-4C42-BB7D-6561E9E9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8E32-9167-4088-9E52-1515D33E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77E-D31A-42A6-A108-4F8ABD3A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729A-F908-4FA8-ACF4-09209BE6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2EE4-9CBE-4A4C-A90E-F7D11C17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38CC-D30C-4991-A9B3-2C23215D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8F93-470F-4DCB-B6A4-70D4C8B2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74C2-BD93-4614-83E1-8DD4FE35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CF74-D613-4BCC-A382-B8897684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"/>
              <p:cNvSpPr/>
              <p:nvPr/>
            </p:nvSpPr>
            <p:spPr>
              <a:xfrm>
                <a:off x="-12600" y="936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-6480" y="3078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7320" y="336600"/>
                <a:ext cx="782640" cy="1087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49280" y="7412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cc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00cc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5CDD-B5D9-4B4D-AD56-5EC2A12176B5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50" name="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53" name=""/>
              <p:cNvSpPr/>
              <p:nvPr/>
            </p:nvSpPr>
            <p:spPr>
              <a:xfrm>
                <a:off x="-12600" y="16812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-6480" y="18954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57320" y="192420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49280" y="23288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0D13-0A3B-4630-95E5-109583BAFAB8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cc00cc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cc00cc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cc00cc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ddddd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ddddd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1066680"/>
            <a:ext cx="7772400" cy="198144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cccc"/>
                </a:solidFill>
                <a:latin typeface="Arial"/>
              </a:rPr>
              <a:t>Sir, We Would See Jesus”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cccc"/>
                </a:solidFill>
                <a:latin typeface="Arial"/>
              </a:rPr>
              <a:t>The Life of Christ, Part 1</a:t>
            </a: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8399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Quarter 9, Lesson 21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Mark 8:31 – 9:32; Matt. 17:24-27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Pages 78-83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E80D-EEF4-4678-82D7-528F2976C0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Arial"/>
              </a:rPr>
              <a:t>Jesus Heals A Demoniac Boy</a:t>
            </a:r>
            <a:br>
              <a:rPr sz="4000"/>
            </a:br>
            <a:r>
              <a:rPr b="0" lang="en-US" sz="2800" spc="-1" strike="noStrike">
                <a:solidFill>
                  <a:srgbClr val="00cccc"/>
                </a:solidFill>
                <a:latin typeface="Arial"/>
              </a:rPr>
              <a:t>Mark 9:14-29; Matt. 17:14-20; Luke 9:37-43</a:t>
            </a:r>
            <a:endParaRPr b="0" lang="en-US" sz="28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After leaving the mountain, Jesus found the scribes questioning His disciple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A man begged Jesus to heal his demon- possessed son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Earlier, His disciples could not heal him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Jesus cast out the foul spirit from the boy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His disciples asked why they could not heal him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3A90-A05C-4946-A7C1-4388359D13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Arial"/>
              </a:rPr>
              <a:t>His Death and Resurrection</a:t>
            </a:r>
            <a:br>
              <a:rPr sz="4000"/>
            </a:br>
            <a:r>
              <a:rPr b="0" lang="en-US" sz="2800" spc="-1" strike="noStrike">
                <a:solidFill>
                  <a:srgbClr val="00cccc"/>
                </a:solidFill>
                <a:latin typeface="Arial"/>
              </a:rPr>
              <a:t>Mark 9:30-32; Matt. 17:22-23; Luke 9:43-45</a:t>
            </a:r>
            <a:endParaRPr b="0" lang="en-US" sz="28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Jesus </a:t>
            </a: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again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taught His disciples: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He would be delivered into the hands of me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hey will kill Him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He would rise the third da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y could not comprehend His teaching and it caused them much sorrow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Jesus wanted them to be sure to remember these facts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FFD9-748E-44BD-94F3-19058AB7BC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Arial"/>
              </a:rPr>
              <a:t>Jesus Pays Taxes</a:t>
            </a:r>
            <a:br>
              <a:rPr sz="2800"/>
            </a:br>
            <a:r>
              <a:rPr b="0" lang="en-US" sz="2400" spc="-1" strike="noStrike">
                <a:solidFill>
                  <a:srgbClr val="00cccc"/>
                </a:solidFill>
                <a:latin typeface="Arial"/>
              </a:rPr>
              <a:t>Matt. 17:24-27</a:t>
            </a:r>
            <a:endParaRPr b="0" lang="en-US" sz="2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tax collectors contacted Peter about Jesus paying the temple tax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Jesus explained that He did not have to pay the tax, but did anyway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He again showed Peter that He was the Son of Go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Jesus performed a miracle for Peter to get the money to pay the tax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184-95AE-4F37-9F7D-BB6E501493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Arial"/>
              </a:rPr>
              <a:t>Jesus Foretells His Death</a:t>
            </a:r>
            <a:br>
              <a:rPr sz="4000"/>
            </a:br>
            <a:r>
              <a:rPr b="0" lang="en-US" sz="2800" spc="-1" strike="noStrike">
                <a:solidFill>
                  <a:srgbClr val="00cccc"/>
                </a:solidFill>
                <a:latin typeface="Arial"/>
              </a:rPr>
              <a:t>Mark 8:31-37; Matt. 16:21-26; Luke 9:22-25</a:t>
            </a:r>
            <a:endParaRPr b="0" lang="en-US" sz="28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Jesus taught His disciples: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He would suffer many thing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elders, chief priests, scribes would reject Him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He would be kille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n, after three days, He would rise from the dea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991A-0E60-4EA5-BE80-E163CB579C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Arial"/>
              </a:rPr>
              <a:t>Jesus Foretells His Death</a:t>
            </a:r>
            <a:br>
              <a:rPr sz="4000"/>
            </a:br>
            <a:r>
              <a:rPr b="0" lang="en-US" sz="2800" spc="-1" strike="noStrike">
                <a:solidFill>
                  <a:srgbClr val="00cccc"/>
                </a:solidFill>
                <a:latin typeface="Arial"/>
              </a:rPr>
              <a:t>Mark 8:31-37; Matt. 16:21-26; Luke 9:22-25</a:t>
            </a:r>
            <a:endParaRPr b="0" lang="en-US" sz="28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disciples were shocke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y were still looking forward to an earthly king and kingdom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Peter rebuked Jesus: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his will not happen to you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Jesus rebuked Peter: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You are thinking like a ma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F6F5-B74B-462F-95AB-1F493CD876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Arial"/>
              </a:rPr>
              <a:t>Jesus Foretells His Resurrection</a:t>
            </a:r>
            <a:br>
              <a:rPr sz="4000"/>
            </a:br>
            <a:r>
              <a:rPr b="0" lang="en-US" sz="2800" spc="-1" strike="noStrike">
                <a:solidFill>
                  <a:srgbClr val="00cccc"/>
                </a:solidFill>
                <a:latin typeface="Arial"/>
              </a:rPr>
              <a:t>Mark 8:31; Matt. 16:21; Luke 9:22</a:t>
            </a:r>
            <a:endParaRPr b="0" lang="en-US" sz="28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att. 16:21 (NKJV):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Arial"/>
              </a:rPr>
              <a:t>From that time Jesus began to show to His disciples that He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Arial"/>
              </a:rPr>
              <a:t>must go to Jerusalem</a:t>
            </a:r>
            <a:r>
              <a:rPr b="0" i="1" lang="en-US" sz="2800" spc="-1" strike="noStrike">
                <a:solidFill>
                  <a:srgbClr val="dddddd"/>
                </a:solidFill>
                <a:latin typeface="Arial"/>
              </a:rPr>
              <a:t>, and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Arial"/>
              </a:rPr>
              <a:t>suffer many things</a:t>
            </a:r>
            <a:r>
              <a:rPr b="0" i="1" lang="en-US" sz="2800" spc="-1" strike="noStrike">
                <a:solidFill>
                  <a:srgbClr val="dddddd"/>
                </a:solidFill>
                <a:latin typeface="Arial"/>
              </a:rPr>
              <a:t> from the elders and chief priests and scribes, and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Arial"/>
              </a:rPr>
              <a:t>be killed</a:t>
            </a:r>
            <a:r>
              <a:rPr b="0" i="1" lang="en-US" sz="2800" spc="-1" strike="noStrike">
                <a:solidFill>
                  <a:srgbClr val="dddddd"/>
                </a:solidFill>
                <a:latin typeface="Arial"/>
              </a:rPr>
              <a:t>, and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Arial"/>
              </a:rPr>
              <a:t>be raised</a:t>
            </a:r>
            <a:r>
              <a:rPr b="0" i="1" lang="en-US" sz="2800" spc="-1" strike="noStrike">
                <a:solidFill>
                  <a:srgbClr val="dddddd"/>
                </a:solidFill>
                <a:latin typeface="Arial"/>
              </a:rPr>
              <a:t> the third day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300"/>
              </a:spcAft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Remember the sign He gave the Pharisees and the Sadducees about Jonah in Matt. 16:4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E04E-DD36-402D-A03C-F1605202C3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Arial"/>
              </a:rPr>
              <a:t>Jesus Foretells His Kingdom</a:t>
            </a:r>
            <a:br>
              <a:rPr sz="4000"/>
            </a:br>
            <a:r>
              <a:rPr b="0" lang="en-US" sz="2800" spc="-1" strike="noStrike">
                <a:solidFill>
                  <a:srgbClr val="00cccc"/>
                </a:solidFill>
                <a:latin typeface="Arial"/>
              </a:rPr>
              <a:t>Matt. 16:28; Mark 9:1; Luke 9:27</a:t>
            </a:r>
            <a:endParaRPr b="0" lang="en-US" sz="28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atthew 16:28 (NKJV):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Assuredly, I say to you, there are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ome</a:t>
            </a: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 standing here who shall not taste death till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hey</a:t>
            </a:r>
            <a:r>
              <a:rPr b="0" i="1" lang="en-US" sz="2400" spc="-1" strike="noStrike" u="sng">
                <a:solidFill>
                  <a:srgbClr val="dddddd"/>
                </a:solidFill>
                <a:uFillTx/>
                <a:latin typeface="Arial"/>
              </a:rPr>
              <a:t> see the Son of Man coming in His kingdom</a:t>
            </a: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.”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ark 9:1 (NKJV):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And He said to them, “Assuredly, I say to you that there are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ome</a:t>
            </a: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 standing here who will not taste death till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hey</a:t>
            </a:r>
            <a:r>
              <a:rPr b="0" i="1" lang="en-US" sz="2400" spc="-1" strike="noStrike" u="sng">
                <a:solidFill>
                  <a:srgbClr val="dddddd"/>
                </a:solidFill>
                <a:uFillTx/>
                <a:latin typeface="Arial"/>
              </a:rPr>
              <a:t> see the kingdom of God present with power</a:t>
            </a: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.”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Luke 9:27 (NKJV):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But I tell you truly, there are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ome</a:t>
            </a: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 standing here who shall not taste death till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hey</a:t>
            </a:r>
            <a:r>
              <a:rPr b="0" i="1" lang="en-US" sz="2400" spc="-1" strike="noStrike" u="sng">
                <a:solidFill>
                  <a:srgbClr val="dddddd"/>
                </a:solidFill>
                <a:uFillTx/>
                <a:latin typeface="Arial"/>
              </a:rPr>
              <a:t> see the kingdom of God</a:t>
            </a: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.”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6A0C-8583-424B-8E91-7D73FDB2A081}" type="slidenum">
              <a:t>5</a:t>
            </a:fld>
          </a:p>
        </p:txBody>
      </p:sp>
    </p:spTree>
  </p:cSld>
  <p:transition spd="med">
    <p:zoom dir="in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Arial"/>
              </a:rPr>
              <a:t>The Terms of Discipleship</a:t>
            </a:r>
            <a:br>
              <a:rPr sz="4000"/>
            </a:br>
            <a:r>
              <a:rPr b="0" lang="en-US" sz="2800" spc="-1" strike="noStrike">
                <a:solidFill>
                  <a:srgbClr val="00cccc"/>
                </a:solidFill>
                <a:latin typeface="Arial"/>
              </a:rPr>
              <a:t>Mark 8:34-38; Matt. 16:24-27; Luke 9:23-26</a:t>
            </a:r>
            <a:endParaRPr b="0" lang="en-US" sz="28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Jesus said: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If you follow me, you must deny yourself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Whoever saves his life shall lose it; whoever loses his life shall save i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If you gain the whole world, and lose your soul, what have you accomplished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If you are ashamed of me and my words, I will be ashamed of you when I return in glor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E115-FD67-43C6-93D0-0E51E8AFAD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Arial"/>
              </a:rPr>
              <a:t>The Transfiguration</a:t>
            </a:r>
            <a:br>
              <a:rPr sz="4000"/>
            </a:br>
            <a:r>
              <a:rPr b="0" lang="en-US" sz="2800" spc="-1" strike="noStrike">
                <a:solidFill>
                  <a:srgbClr val="00cccc"/>
                </a:solidFill>
                <a:latin typeface="Arial"/>
              </a:rPr>
              <a:t>Mark 9:2-8; Matt. 17:1-8; Luke 9:28-36</a:t>
            </a:r>
            <a:endParaRPr b="0" lang="en-US" sz="28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 days later, Jesus took Peter, James and John upon a mountain to pray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Jesus was transfigured: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His face was changed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His clothes were shining bright, glistering white as snow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Moses and Elijah talked with Jesu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Peter suggested they build three tabernacles for them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B044-7597-4359-B82F-62B750CE47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Arial"/>
              </a:rPr>
              <a:t>The Transfiguration</a:t>
            </a:r>
            <a:br>
              <a:rPr sz="4000"/>
            </a:br>
            <a:r>
              <a:rPr b="0" lang="en-US" sz="2800" spc="-1" strike="noStrike">
                <a:solidFill>
                  <a:srgbClr val="00cccc"/>
                </a:solidFill>
                <a:latin typeface="Arial"/>
              </a:rPr>
              <a:t>Mark 9:2-8; Matt. 17:1-8; Luke 9:28-36</a:t>
            </a:r>
            <a:endParaRPr b="0" lang="en-US" sz="28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A cloud overshadowed them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A voice said,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s is my beloved Son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ar him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uddenly, they turned and Jesus was alone with them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591D-F2AE-41DC-8C2E-EF4A2A284A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Arial"/>
              </a:rPr>
              <a:t>Questions About Elijah...</a:t>
            </a:r>
            <a:br>
              <a:rPr sz="4000"/>
            </a:br>
            <a:r>
              <a:rPr b="0" lang="en-US" sz="2800" spc="-1" strike="noStrike">
                <a:solidFill>
                  <a:srgbClr val="00cccc"/>
                </a:solidFill>
                <a:latin typeface="Arial"/>
              </a:rPr>
              <a:t>Mark 9:9-13; Matt. 17:9-13; Luke 9:36</a:t>
            </a:r>
            <a:endParaRPr b="0" lang="en-US" sz="28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y were to tell no man what they had seen until Jesus was raised from the dea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y asked: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Arial"/>
              </a:rPr>
              <a:t>"Why do the scribes say that Elijah must come first?“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He explained that Elijah had already com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n, they understood He spoke of John the Baptis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291-7725-45C5-BDE2-273B8EDDA7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23:11:14Z</dcterms:created>
  <dc:creator>Frank D Vines</dc:creator>
  <dc:description/>
  <dc:language>en-US</dc:language>
  <cp:lastModifiedBy>Frank D Vines</cp:lastModifiedBy>
  <dcterms:modified xsi:type="dcterms:W3CDTF">2006-09-24T13:47:31Z</dcterms:modified>
  <cp:revision>17</cp:revision>
  <dc:subject/>
  <dc:title>“Sir, We Would See Jesus”</dc:title>
</cp:coreProperties>
</file>